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5.jpeg" ContentType="image/jpeg"/>
  <Override PartName="/ppt/media/image24.png" ContentType="image/png"/>
  <Override PartName="/ppt/media/image11.jpeg" ContentType="image/jpeg"/>
  <Override PartName="/ppt/media/image2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7.jpeg" ContentType="image/jpeg"/>
  <Override PartName="/ppt/media/image39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C16857-0562-42BA-A8C8-5C3A1BB31D2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1AD85C-5059-461C-A062-D2879A938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A143E5-FD37-4FD4-87B7-0A8F1E6EF91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222D43-AA54-4CA4-8F28-CE891F494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F3BFEC-9B9B-463D-BEC7-C477B1107AB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EDF2A3-F003-4058-91C6-4A5CEEBA27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DE22C6-B7FB-47B1-8B24-1A3ED8EE3C2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25D3FE-80B3-4B1C-B14E-1A0A09067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6993A1-16B0-4489-B207-FD2AB79360E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49A8A2-BCAE-4A2B-8BCC-39FC7CA98A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05AB7B-1A61-46CC-8263-285CF027D87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923D46-DAEA-4AB5-B0AB-54ADE341B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77FCD1-04C7-4016-83EE-5ED63A02AF9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D67057-66BE-429B-A544-CCCD034BD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6792BF-8413-43D7-8763-3BA974F6CD2E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703669-B175-4834-83DB-198AB4510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773E54-8161-496A-A4EE-A0CAAF6A154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03E7D0-F37C-4680-BDAA-980A251D0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25FE0C-58D7-4228-829C-6B26D368A6E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FA817D-17D7-4ACD-AB84-2BEB8CB0DB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38E222-E397-43B9-8343-3FDD5674A40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72C9B2-79A8-4A40-BE79-989B86B07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DF4E8A-1D47-44D5-A3FB-D6D62864F29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6E2BB1-BA2E-4653-9B9A-C45C6A47A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EAC68A-CAF6-40AD-9728-957F8B95CA0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3BB2AC-E0FA-486E-80B3-8ABB0DEE8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1376F7-F00C-4641-AD94-2BEFC2400E0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FE45DC-5789-4F2A-BB5D-08E329FF24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943D51-BB22-45FE-95D1-0EDA9808100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DAED5D-8141-4A63-8688-2ED82140DB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2B1303-7908-4F9E-BB71-6A550A9141C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2B4F0E-5C16-48BD-8569-66B87676B6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286E2D-3D92-42CD-8AB3-A23DD6A1D87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AF68A2-0822-404B-A0B6-E61484FD1A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C009B8-4C04-441F-9CD4-BB9B917DBB2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417C02-4F11-400E-9D04-6B102F97F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5424AC-44B5-4145-8571-F7380197796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673A28-A663-4CA4-82D2-89449CFF6C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AA292C-5D0A-4B55-9EB7-93EB22CD216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B31CBE-6562-44A1-B8D5-4A69F1F57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86FB28-6E97-4105-A0D9-7EE9EE0EE11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F6AC18-DF4E-4911-8DA3-AF44EA169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7FEE94-364E-4F2A-A653-23E67B10DD5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F3F6E9-4846-4B2D-B1F9-A639345CB2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DD27C5-668C-4533-B4F1-051379012B3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8C97B8-719B-4921-B600-401B18C8A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6CC272-CECF-4DE9-9489-F63645AF256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70CE5B-3B58-4203-A4CB-7C50D6C2C8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340C97-3804-4D59-A7A7-07375855A9E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332168-2BDC-4BD5-871D-811A8804A6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4E4FA0-822C-4D18-8660-EAE9E60741E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B782B3-5E9E-49A8-9BED-11E1822C5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4B8C84-96DA-4DEC-81C5-E81715A7FED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47261D-ABA4-4CA2-A9C8-0704DF5049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6F848A-B4FE-4111-9C8C-74E130EFBC9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70588F-07AF-46BF-8B21-2A52B786BB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814E9E-7B8B-4040-89DD-30AD89C2EA3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67187B-7DEE-47F6-8703-D5237A8D2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2F4305-7CCF-4ACF-BDB5-14692C3822D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8D02D7-C617-4B45-846E-31B93C39F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120C8D-9FD8-44E4-8FE7-F91689BE893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4113F0-9A54-4132-AECF-0D17251AA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76C447-76F3-4D9E-A822-06AEA7A2D64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1861CA-294A-4ACB-A6A6-2A4780205A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ED2DB5-8C82-4E79-912A-B5581F2B2D2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89BE4B-841E-4729-A3BA-333616BE35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22F203-B4CB-4BE7-821B-D2F75982268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98CCE1-DFE8-494C-B932-330B0FCD31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F7A3D7-3D55-4A95-9041-F0AF93D71CB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AF59F0-F959-41B9-8FC0-9DE412D62A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2D7F92-03C7-4F3F-8F63-23228D50353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94102D-3E00-4337-8E34-4FFEFFAD18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940C91-65E3-4263-A528-FCB0D1EAB81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A17635-FED9-456C-80DB-51B7686102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Line 12"/>
          <p:cNvSpPr/>
          <p:nvPr/>
        </p:nvSpPr>
        <p:spPr>
          <a:xfrm>
            <a:off x="144792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49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2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Health for MCAH Population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88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hildren’s Oral Health Program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ontra Costa Health Services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November 2008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04" name="Picture 6" descr="DSC_7961"/>
          <p:cNvPicPr/>
          <p:nvPr/>
        </p:nvPicPr>
        <p:blipFill>
          <a:blip r:embed="rId1"/>
          <a:stretch/>
        </p:blipFill>
        <p:spPr>
          <a:xfrm>
            <a:off x="3238560" y="2112840"/>
            <a:ext cx="358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657600" y="4770360"/>
            <a:ext cx="0" cy="4572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whspotbig"/>
          <p:cNvPicPr/>
          <p:nvPr/>
        </p:nvPicPr>
        <p:blipFill>
          <a:blip r:embed="rId1"/>
          <a:stretch/>
        </p:blipFill>
        <p:spPr>
          <a:xfrm>
            <a:off x="1600200" y="3560760"/>
            <a:ext cx="358128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tage1"/>
          <p:cNvPicPr/>
          <p:nvPr/>
        </p:nvPicPr>
        <p:blipFill>
          <a:blip r:embed="rId2"/>
          <a:stretch/>
        </p:blipFill>
        <p:spPr>
          <a:xfrm>
            <a:off x="5334120" y="1905120"/>
            <a:ext cx="34416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Mild/Moderat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2" name="Picture 1029" descr="decay"/>
          <p:cNvPicPr/>
          <p:nvPr/>
        </p:nvPicPr>
        <p:blipFill>
          <a:blip r:embed="rId1"/>
          <a:stretch/>
        </p:blipFill>
        <p:spPr>
          <a:xfrm>
            <a:off x="5181480" y="2590920"/>
            <a:ext cx="3746520" cy="250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30" descr="decay2"/>
          <p:cNvPicPr/>
          <p:nvPr/>
        </p:nvPicPr>
        <p:blipFill>
          <a:blip r:embed="rId2"/>
          <a:stretch/>
        </p:blipFill>
        <p:spPr>
          <a:xfrm>
            <a:off x="1371600" y="1905120"/>
            <a:ext cx="3505320" cy="230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31" descr="S:\fmch\Everyone\Children's Oral Health Program\Oral Health Report\Photos\moderate ECC.jpg"/>
          <p:cNvPicPr/>
          <p:nvPr/>
        </p:nvPicPr>
        <p:blipFill>
          <a:blip r:embed="rId3"/>
          <a:stretch/>
        </p:blipFill>
        <p:spPr>
          <a:xfrm>
            <a:off x="1447920" y="4343400"/>
            <a:ext cx="35049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ver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6" name="Picture 1030" descr="abscess"/>
          <p:cNvPicPr/>
          <p:nvPr/>
        </p:nvPicPr>
        <p:blipFill>
          <a:blip r:embed="rId1"/>
          <a:stretch/>
        </p:blipFill>
        <p:spPr>
          <a:xfrm>
            <a:off x="5321160" y="1905120"/>
            <a:ext cx="306072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31" descr="badteeth"/>
          <p:cNvPicPr/>
          <p:nvPr/>
        </p:nvPicPr>
        <p:blipFill>
          <a:blip r:embed="rId2"/>
          <a:stretch/>
        </p:blipFill>
        <p:spPr>
          <a:xfrm>
            <a:off x="1600200" y="198108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2" descr="severedecay"/>
          <p:cNvPicPr/>
          <p:nvPr/>
        </p:nvPicPr>
        <p:blipFill>
          <a:blip r:embed="rId3"/>
          <a:stretch/>
        </p:blipFill>
        <p:spPr>
          <a:xfrm>
            <a:off x="1752480" y="4673520"/>
            <a:ext cx="3264120" cy="165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33" descr="S:\fmch\Everyone\Children's Oral Health Program\Oral Health Report\Photos\severe ECC.jpg"/>
          <p:cNvPicPr/>
          <p:nvPr/>
        </p:nvPicPr>
        <p:blipFill>
          <a:blip r:embed="rId4"/>
          <a:stretch/>
        </p:blipFill>
        <p:spPr>
          <a:xfrm>
            <a:off x="5334120" y="4191120"/>
            <a:ext cx="3047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Risk Factors for Cari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aving a mother with a high caries rate or a high bacterial count of cavity-causing germ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monstrable caries, plaque, demineralization, and/or stai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eing a later-order offspr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57800" y="19047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leeping with a bottle or breastfeeding throughout the nigh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ow socioeconomic statu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ack of access to dental ca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hildren with Disabilities and Other Special Needs 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ed saliva flow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weetened medicatio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ompeting medical need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Effects of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86040" y="20574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Loss of primary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lf-este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Loss of Primary Tee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rimary teeth are important for: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Speech development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Holding spaces for permanent teeth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ntreated decay in primary teeth can lead to decay in permanent teeth, or permanent teeth may not erupt at al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imary and Permanent Teeth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705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ai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hildren learn to live with the 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issed preschool and school day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ability to concentrate; impairs school readin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affect sleep and overall health and well-be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Infec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ailure to thrive and delayed growth patter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44604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Image1"/>
          <p:cNvPicPr/>
          <p:nvPr/>
        </p:nvPicPr>
        <p:blipFill>
          <a:blip r:embed="rId2"/>
          <a:stretch/>
        </p:blipFill>
        <p:spPr>
          <a:xfrm>
            <a:off x="1981080" y="3733920"/>
            <a:ext cx="2764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sentation Outlin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Early childhood cari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eriodontal disease and perinatal health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olescent oral health:  Oral piercing and grill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evention of dental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ccess to oral health car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ke-home messag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lf-esteem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Stainless steel crown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Unattractive smile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352680" y="3860640"/>
            <a:ext cx="373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Importance of Oral Health for Pregnant Wome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 in a pregnant woman has been linked to increased risk for preterm delivery and having a low birth weight bab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r mom:  pain, infection, poor nutrition, sleep deprivation, inability to concentrate, work or take care of childre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4"/>
          <p:cNvGrpSpPr/>
          <p:nvPr/>
        </p:nvGrpSpPr>
        <p:grpSpPr>
          <a:xfrm>
            <a:off x="1967400" y="1828800"/>
            <a:ext cx="6179040" cy="4498200"/>
            <a:chOff x="1967400" y="1828800"/>
            <a:chExt cx="6179040" cy="4498200"/>
          </a:xfrm>
        </p:grpSpPr>
        <p:sp>
          <p:nvSpPr>
            <p:cNvPr id="176" name="Line 3"/>
            <p:cNvSpPr/>
            <p:nvPr/>
          </p:nvSpPr>
          <p:spPr>
            <a:xfrm>
              <a:off x="4876920" y="23716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4876920" y="33624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876920" y="44290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4876920" y="54198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813120" y="18288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acteria in 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4356000" y="28195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225320" y="380988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Plac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3865680" y="4876920"/>
              <a:ext cx="21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Inflam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1967400" y="5867280"/>
              <a:ext cx="617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Cervical Dilation and Uterine Contr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ossible Biological Pathw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Between PD and PTB/LBW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Gingiviti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5238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Early stage of gum disease – only gums are inf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aused by bacterial plaque and host risk factors:  smoking, diabetes, stress, gen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Bacteria in plaque create toxins that irritate the gums and cause redness, swelling, bl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versible with good or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severe ging"/>
          <p:cNvPicPr/>
          <p:nvPr/>
        </p:nvPicPr>
        <p:blipFill>
          <a:blip r:embed="rId1"/>
          <a:stretch/>
        </p:blipFill>
        <p:spPr>
          <a:xfrm>
            <a:off x="5334120" y="4019400"/>
            <a:ext cx="2971800" cy="200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oderate ging"/>
          <p:cNvPicPr/>
          <p:nvPr/>
        </p:nvPicPr>
        <p:blipFill>
          <a:blip r:embed="rId2"/>
          <a:stretch/>
        </p:blipFill>
        <p:spPr>
          <a:xfrm>
            <a:off x="5334120" y="2038320"/>
            <a:ext cx="29718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Severe Pregnancy gingivitis"/>
          <p:cNvPicPr/>
          <p:nvPr/>
        </p:nvPicPr>
        <p:blipFill>
          <a:blip r:embed="rId1"/>
          <a:stretch/>
        </p:blipFill>
        <p:spPr>
          <a:xfrm>
            <a:off x="3048120" y="3789360"/>
            <a:ext cx="3886200" cy="2230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gnancy Gingiv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 that is more superficial and brought on by hormonal changes during pregnanc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inflammation and degeneration below the gum line (bone and tissues surrounding the teeth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ulti-factorial and episodic in natu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alence in women of childbearing age is 5-40%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struction of the bone is not reversibl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f left untreated can cause tooth los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ogression of 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1371600" y="2438280"/>
            <a:ext cx="7543800" cy="2381400"/>
            <a:chOff x="1371600" y="2438280"/>
            <a:chExt cx="7543800" cy="2381400"/>
          </a:xfrm>
        </p:grpSpPr>
        <p:pic>
          <p:nvPicPr>
            <p:cNvPr id="199" name="Picture 3" descr="ada co-peri1"/>
            <p:cNvPicPr/>
            <p:nvPr/>
          </p:nvPicPr>
          <p:blipFill>
            <a:blip r:embed="rId1"/>
            <a:stretch/>
          </p:blipFill>
          <p:spPr>
            <a:xfrm>
              <a:off x="1371600" y="2438280"/>
              <a:ext cx="251460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" descr="ada co-peri2"/>
            <p:cNvPicPr/>
            <p:nvPr/>
          </p:nvPicPr>
          <p:blipFill>
            <a:blip r:embed="rId2"/>
            <a:stretch/>
          </p:blipFill>
          <p:spPr>
            <a:xfrm>
              <a:off x="38862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ada co-peri3"/>
            <p:cNvPicPr/>
            <p:nvPr/>
          </p:nvPicPr>
          <p:blipFill>
            <a:blip r:embed="rId3"/>
            <a:stretch/>
          </p:blipFill>
          <p:spPr>
            <a:xfrm>
              <a:off x="64008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Severe Periodontitis - Gingival Recession in Incisor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03" name="Picture 3" descr="Periodontitis Photo"/>
          <p:cNvPicPr/>
          <p:nvPr/>
        </p:nvPicPr>
        <p:blipFill>
          <a:blip r:embed="rId1"/>
          <a:stretch/>
        </p:blipFill>
        <p:spPr>
          <a:xfrm>
            <a:off x="1523880" y="18288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Treatment of 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ofessional deep scaling and root pla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ti-microbial mouth rinse (chlorhexidine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ystemic and/or site-specific antibiot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Gum surge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 Silent Epidemi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ental disease is the most common chronic and infectious disease affecting children in the U.S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ve times more common than asthm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7% of Contra Costa children miss school because of a dental probl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otential consequences of oral piercing include: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fection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longed or uncontrolled bleeding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ain and swelling (in extreme cases, a severely swollen tongue can close off the airway and restrict breathing)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Chipped or cracked teeth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jury to the gums, possibly resulting in bone loss and root deca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blems with chewing, swallowing, and pronouncing words properl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Blood-borne diseases including various strains of hepatitis; and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Endocarditis, an inflammation of the heart valves or tissues. 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cause of the risks involved even after an initial oral piercing wound has healed, the ADA recommends that both teens and adults avoid oral piercing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ade from gold, silver, or jewel-encrusted precious metals 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 of permanent cement not intended for internal us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-it-yourself kits and unlicensed jeweler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Grills can wear away the enamel on the opposing teeth and inflame the gums; cement can damage teeth and gum tissu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ood collec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tooth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A recommends that youth avoid wearing grills, but if they are considering it, youth should: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lk to their dentists first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ind out what materials the grills are made of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limit the time the grills are worn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move the grills when eating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actice good oral hygien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 Dental Decay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Regular dental visits starting at age 1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ferral by medical provider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ygie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Sealant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ealthy feeding practic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odifying caregiver’s oral health:  Xylito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Inf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57800" y="21333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fore teeth come in, wipe gums clean with gauze or washcloth, before or after last feeding at night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0" name="Picture 9" descr="S:\Users\pparthas\My Pictures\Abby\AbbyJean_035ed_1_1.jpg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“Lift the Lip”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When teeth are in, “lift the lip” monthly to check for chalky white spots or brown spo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Brushing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gins when first tooth erup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An adult should help brush a child’s teeth until child is around 8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236232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babybrush"/>
          <p:cNvPicPr/>
          <p:nvPr/>
        </p:nvPicPr>
        <p:blipFill>
          <a:blip r:embed="rId2"/>
          <a:stretch/>
        </p:blipFill>
        <p:spPr>
          <a:xfrm>
            <a:off x="5486400" y="1752480"/>
            <a:ext cx="2514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Toothpast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ncourage daily use in the morning and before bed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 small smear is the appropriate amoun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pply toothpaste across width, not length of toothbrus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299200" y="2666880"/>
            <a:ext cx="3463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Varnis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rown resin that sets on contact with moisture in the mou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ents ECC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asy applicati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ontains 5% of NaF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3" name="Picture 4" descr="S:\fmch\Everyone\Children's Oral Health Program\Dental - Contracts, Grants &amp; Proposals\First 5 Oral Health Education and Training Project\Fluoride Varnish\varnish america pic.jpg"/>
          <p:cNvPicPr/>
          <p:nvPr/>
        </p:nvPicPr>
        <p:blipFill>
          <a:blip r:embed="rId1"/>
          <a:stretch/>
        </p:blipFill>
        <p:spPr>
          <a:xfrm>
            <a:off x="3486240" y="5181480"/>
            <a:ext cx="33717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National Polic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ll children should see a dentist by age one or six months after the eruption of the first too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 Dentist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1676520" y="2133720"/>
          <a:ext cx="33271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33271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ommunity Water Fluoridatio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nly about 30% of Californians have  fluoridated drinking water (vs. 67% nationwide)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n Francisco Public Utilities Commission areas all fluoridate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ll of Contra Costa is fluoridated </a:t>
            </a:r>
            <a:r>
              <a:rPr b="0" i="1" lang="en-US" sz="2200" spc="-1" strike="noStrike">
                <a:solidFill>
                  <a:srgbClr val="000000"/>
                </a:solidFill>
                <a:latin typeface="Verdana Ref"/>
              </a:rPr>
              <a:t>except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Bay Point, Byron, Knightsen, and Brentwoo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1873080" y="2338560"/>
          <a:ext cx="254664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2338560"/>
                    <a:ext cx="254664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lastic coatings that dentists apply to the chewing surfaces of the mol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ake it difficult for plaque to adhere to the grooves of these teeth, reducing the risk of developing cavit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ost effective in children who have newly developed molars (ages six and 12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Last for several ye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 Placemen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41" name="Picture 3" descr="S:\fmch\Everyone\Children's Oral Health Program\Oral Health Report\Photos\sealants.jpg"/>
          <p:cNvPicPr/>
          <p:nvPr/>
        </p:nvPicPr>
        <p:blipFill>
          <a:blip r:embed="rId1"/>
          <a:stretch/>
        </p:blipFill>
        <p:spPr>
          <a:xfrm>
            <a:off x="2057400" y="1914480"/>
            <a:ext cx="6086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Healthy Feeding Practic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at healthy foods and avoid sticky, starchy foods between meal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on’t let infants and toddlers go to bed with a bottle or sipper cup or carry one around during the day, unless it contains only water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aregiver’s Oral Heal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odify caregiver’s dental flora during the period from birth until the child is 2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se anti-bacterials like xylitol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Xylitol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antibacterial, non-cariogenic sweetener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d in some foods, chewing gum, candies; available over-the-counter and onli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aries-causing bacteria cannot feed on xylitol (it does not produce acid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ncreases saliva flow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tudies show that when used by mothers, there is a 30 to 60% reduction in tooth decay in their  childre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brushing and floss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dental exams and professional cleaning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liminating tobacco u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ing str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ccess to Oral Health Car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21% of children (0-17) and 35% of adults (18+) in CA do not have dental insurance (’05 &amp; ’03 CHIS)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Many employers do not cover dental insuranc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ists and specialists accepting Medi-Ca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ounty and community clinics overburdened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Need more dentists to see young children and pregnant wom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al specialists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gular threats by state to cut or eliminate Medi-Cal dental benefits for pregnant women &amp; childr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ake-home Messag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ealth is integral part of total heal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very comm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infectious and transmissible, but it is preventable in many way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visit by age o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ccess to care barriers can be very significant, especially for low-income famili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What are Early Childhood Caries (ECC)?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35809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reviously known as Baby Bottle Tooth Decay (BBTD) or Nursing Car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Can appear as soon as the first tooth erupts (around 6 months of age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15" name="Rectangle 1030"/>
          <p:cNvSpPr/>
          <p:nvPr/>
        </p:nvSpPr>
        <p:spPr>
          <a:xfrm>
            <a:off x="1447920" y="21337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ECC is an infectious and transmissible disease; however, it is prev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ECC is an infectious, transmissible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utans streptococci, lactobacilli, and other acid-producing bacteri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ransmission is both vertical and horizonta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18" name="Picture 11" descr="germs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oloniza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590560"/>
            <a:ext cx="3200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begin even before the eruption of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Chain of Deca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95280" y="19051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523880" y="1905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ogenic Bacteria (S. mutans, lactobacil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38160" y="3116160"/>
            <a:ext cx="50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Sucrose, Glucose, Fructose,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34920" y="4295880"/>
            <a:ext cx="420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cids dissolve tooth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048120" y="5791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es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  No C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7572240" y="50198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4648320" y="2438280"/>
            <a:ext cx="533160" cy="609840"/>
          </a:xfrm>
          <a:prstGeom prst="downArrow">
            <a:avLst>
              <a:gd name="adj1" fmla="val 50000"/>
              <a:gd name="adj2" fmla="val 2859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648320" y="365760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6781680" y="5029200"/>
            <a:ext cx="685800" cy="485640"/>
          </a:xfrm>
          <a:prstGeom prst="leftArrow">
            <a:avLst>
              <a:gd name="adj1" fmla="val 50000"/>
              <a:gd name="adj2" fmla="val 35304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3429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5715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e first visible sign of tooth deca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versible with fluoride varnis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1:38Z</dcterms:created>
  <dc:creator>Janet</dc:creator>
  <dc:description/>
  <dc:language>en-US</dc:language>
  <cp:lastModifiedBy>lthomas</cp:lastModifiedBy>
  <dcterms:modified xsi:type="dcterms:W3CDTF">2009-04-27T17:12:09Z</dcterms:modified>
  <cp:revision>154</cp:revision>
  <dc:subject/>
  <dc:title>The effects of ECC</dc:title>
</cp:coreProperties>
</file>